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5196-E441-409E-96A9-1470C9389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1827-FD34-41E2-B649-79C019582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4F78-3758-4013-997E-BFF3CA7AE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E32B-F53E-4010-A06E-7690247AD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65CF-F07D-4CA3-93CD-4A2ED065E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CA14-F51D-47E9-B0C3-78E36416C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5EC5-1667-4DBC-94A5-4CBDDF2D1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1669-EDE0-4421-B89D-0585216AD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F12C-BB52-44EC-B470-A55652AF2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1087-4223-489D-9497-30628130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CB88-086A-4238-ABEB-00F7E2A04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C8CD-B987-4E55-973B-2F3D1F6A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BB235-FE5F-4FF2-9EDE-BB1CA6980C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painandwellness.com/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Endovascular Thoracic Aortic Repair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2209680"/>
            <a:ext cx="64008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John Reid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uy`s &amp; St Thomas`Hospit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ondon U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905120" y="6531120"/>
            <a:ext cx="5029200" cy="3268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05720" y="5551560"/>
            <a:ext cx="2209680" cy="7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e Probl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oracic Aortic aneurysms.Traumatic Transections (Ruptur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sk of rupture and death. May be incidental finding or may rup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ociated high comorbid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 Morbidity and Mortality (10-25%) of conventional surge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AAA endovascular repai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6705720"/>
            <a:ext cx="8915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905120" y="6531120"/>
            <a:ext cx="5029200" cy="326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705720" y="5551560"/>
            <a:ext cx="2209680" cy="7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dvantages of Endovascula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general anaesthes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Thoracotomy or byp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Intensive car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rter recovery/Hospital st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905120" y="6531120"/>
            <a:ext cx="5029200" cy="3268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705720" y="5551560"/>
            <a:ext cx="2209680" cy="7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echnical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 diameter stentgrafts now available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 45mm diameter – self-expanding stents covered with Dacron/PTF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ced under radiological control via small groin incision (8-9mm tub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cision plac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T/MR imaging important for planning/follow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705720" y="5551560"/>
            <a:ext cx="2209680" cy="772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905120" y="6531120"/>
            <a:ext cx="5029200" cy="32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Our Study -1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0 consecutive patients (1997-2006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&gt;F mean 67y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-risk pati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n with early devices not considered equipoise so no RCTs except for aortic diss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ques and devices have evolved and continue to do 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705720" y="5551560"/>
            <a:ext cx="2209680" cy="772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905120" y="6531120"/>
            <a:ext cx="5029200" cy="32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Our Study 2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all mortality (&lt;30 days) – 8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plegia 7/190. 3.8% (cf.surgery) only 2 perman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oke – 3.8%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te mortality 8.9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705720" y="5551560"/>
            <a:ext cx="2209680" cy="7729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905120" y="6531120"/>
            <a:ext cx="5029200" cy="32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roble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ice fail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ng-term follow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doleak – may not be signific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treat with secondary proced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 few cases may need open surgery – no probl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905120" y="6531120"/>
            <a:ext cx="5029200" cy="3268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6705720" y="5551560"/>
            <a:ext cx="2209680" cy="7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e Fu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905120" y="274320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anched/Better devic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brid techniq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eater need for detailed imag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905120" y="6531120"/>
            <a:ext cx="5029200" cy="3268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705720" y="5551560"/>
            <a:ext cx="2209680" cy="7729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248520" y="4495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3"/>
              </a:rPr>
              <a:t>www.painandwellness.co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9296280" y="1981080"/>
            <a:ext cx="3810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6T15:27:27Z</dcterms:created>
  <dc:creator>Steven Shnitzler</dc:creator>
  <dc:description/>
  <dc:language>en-US</dc:language>
  <cp:lastModifiedBy>AVHQ</cp:lastModifiedBy>
  <cp:lastPrinted>2004-03-20T20:37:16Z</cp:lastPrinted>
  <dcterms:modified xsi:type="dcterms:W3CDTF">2007-03-02T17:52:27Z</dcterms:modified>
  <cp:revision>257</cp:revision>
  <dc:subject/>
  <dc:title>Marketing Your Freestanding IR Practice?</dc:title>
</cp:coreProperties>
</file>